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9383-51D7-46E2-8F57-67B868344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C63D-BA29-42EF-B40B-9CE88EE1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F4319D-6096-407F-820B-5E64D6D3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19DE26-147B-422C-97A5-E897F198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E3C799-389A-4175-8B0B-A737E71E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2C963-D7D7-4FF6-AB6E-8168EADC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21F015-B9CD-4ADA-946B-40DDE637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E27A55-18B2-446D-8067-20219087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A8BEB4-6B6E-4252-800C-7FE4A147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EDE85F-55EA-4B74-9BAE-82A11938B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BF8876-7D6A-42DD-BD50-BC57F244B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F24D67-EBF6-436A-95B9-AF48783EE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BCC8-B093-41DA-B594-0029BDAFF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D82B88-7DDD-4E29-A943-A4EA660E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5005A3-D1AC-4F75-B6FA-C622C0D2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639449-0208-4013-93E8-174E4F8D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AB0A2E-B321-4527-9E23-67A32659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3E524C-2324-429F-914A-6A7031BB6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D2F164-7706-4DF1-AF1D-371C80F5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B83961-B50C-4385-B5B5-0C31AA42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DE9563-106C-47D5-857C-FE2D0D7F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F786D4-7159-4D02-A986-E7B33BC6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78429F-6CD8-4E14-B667-72A0057DF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6E58-3377-467C-9CDA-FDEF6300E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C1CFFE-92AE-4E5F-ADE7-A082B1B91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E445F6-7CD5-4D29-A289-BE533EF28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EA7FF0-B402-4A1F-B086-E4236D8E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800EA-A070-4B29-A583-50139DA6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D8838-BDF9-4650-9B25-33D72FF3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57DC2-1A5A-454F-BB48-B2375590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85BBB7-2B20-43FA-A9BF-40E1F29D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CC76C-8825-4C31-A172-567EE7B0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9DC40-1DDE-486A-8C07-4770F697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A5A8D-16E0-4640-8998-B9732B30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00E7-EB26-438A-9602-30DDD8ADC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922B8-2AE4-4035-B681-8BE1D1DD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F2E5CD-AE5B-423E-984F-6A4A96293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2CB95-66DB-4D97-B2EA-E3490CD3E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7F80FD-4744-4491-8724-90A38F7CB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9DE767-BDE2-468D-9873-B1C75E34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548D68-C034-4CDD-B3FD-77B6003B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18D0B0-6CC5-48F1-8405-85239748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CDEB20-2035-4F0A-876F-915E175A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0F8728-B8E3-44BA-B62A-DDADB7E0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E67C4F-013C-427D-98BC-4C9A0B43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2E853-BBC3-4C1C-AF73-16CE6CA9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7562A4-F2D5-42CE-9B1A-DD6FE2E1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A28468-C367-4D69-AF36-16B1D61F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1D2CEA-40A6-4A0E-BA2A-5A5F3EED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0C1A3D-FC19-493E-8067-B8C094354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87EB1A-04AB-47B8-83DD-A3B62FEFE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A83C7F-B09C-4319-BDE4-7FCDEECE9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C6CB5F-5397-4F04-86DB-8D9CE0F6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4CF090-EBD7-48EC-AB8F-6C9D36E7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0DFE01-D3D1-4FD4-8BE1-56185F5D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26DBFB-E9E5-432A-A928-276F2C3D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75D0-081F-45A2-B3C3-6E6A4B54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318F17-CFE1-4F1C-AE26-2B2ECAC2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7AC399-08EC-41E8-9F77-C017B691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36CEC1-64C4-45C9-B8E7-84BD6A95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1F7C61-A678-4ED6-9256-B00B229C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4C34A5-F7EB-441F-977B-83892A9E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C1285C-422A-496A-884F-7E4A96F6F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A11F89-E7D4-42B7-93FB-4188EB3BE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7FB6A3-E201-401E-9A1A-EF3471FB3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8D91E4-C9F5-4283-B7B0-6EBBDEA6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A64EBB-E407-4D22-B856-85CA2E9C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66327-E38B-43A4-9245-138B4DC6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0AE772-6D44-463E-92F5-DDDAFDB0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8EC614-E4D1-4B92-89F9-883F34C8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52B0CE-8C03-46CE-BC75-C7D80436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068C1B-E64E-4A1F-B423-C4E07003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777591-0F20-4B1B-97BB-4BB947B0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1CF3C9-A4D5-4BC8-8C98-90D44C01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CA0240-1CCE-486D-B830-0FD888EB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7D7EF8-4872-4B28-8731-E78CD3364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E43687-B794-42AF-B9CA-2D85B29BB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681FA8-BAA3-499A-815F-B7EDDF68A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0318-0715-4AAD-800C-E7C44DB5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3254F6-4C7C-45F8-B89B-DFED91DA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545B12-152A-496C-BF10-E969BDBC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AB0C5E-EEBC-4665-8919-FA12645B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F26CD2-C218-441B-A5B7-7B3B65D0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1C073D-6739-4962-B73C-6D71B676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12CE2B-60A7-409B-87B7-CF7F7482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81942B-6F28-49D0-AB01-3D7D6444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6B7CAA-4AE8-4201-864D-246E0F9D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8C3A19-A94F-4A2B-9F63-B51ADBF3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E58576-9E8E-4E2A-B9ED-1AD8C982E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F98C-38D8-4A0B-A45F-960CE767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F40A2F-9AAC-4EE7-8AEA-8FDF16167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37D805-610C-4B17-BCB4-5CA39097F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9B41AB-611D-428D-9B5F-4A27DA9D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0C1D76-8F12-43BD-A5A3-FD5BDC1B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EA4A15-EEAD-4B5C-8594-9F736CC9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CB1B9F-6BC2-4E3C-B63B-9A1A85D0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575F01-D1B6-4848-A867-9E13FF69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0B7D6B-EA75-44CD-8206-03C8F645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37B165-115A-423C-92BD-E2586333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CFB392-22E7-4EE2-9269-1A0FD9E7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EF2F-6706-453B-9A69-1E2DF11D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965209-DCED-4B8A-B147-6B731131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E96985-6CED-494D-8050-137A9BEC3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CF649D-BBD7-43E9-87F0-9C090E699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273CCE-145B-4DF7-9E2D-5967A5A53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D96925-53E0-40C6-81C0-677E1C9B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30AA24-1EC8-4AE2-9FF8-D0F3525F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232EBE-9BBA-4D83-AAFD-A16EA766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A8FB16-A310-40B4-B594-4FE8E814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F723B0-1AC2-44A0-AE1F-58443866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65FAB4-FF06-4B1D-B773-D574DBBD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19CB-1593-4393-AC73-8035246A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635D6-9652-4894-8E53-A21F0F79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466601-D861-4DE2-BF0A-D519B642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320499-E841-4E66-B30D-1A02ADDC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527CD8-C548-44AC-BBC6-9B8453CF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C59611-CF4F-42D0-8539-02D24B2A7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E7FEA3-0C75-44C2-A4A5-CEF8D7D57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5E2173-8F13-4CC9-9CDA-FB34D74F8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A40385-F15A-48F3-87F7-8801E173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50267B-E6C0-40F1-8455-157C2A00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E03069-A88A-4E78-A3FE-70AD38F8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47F4EB-A908-4E8B-9B03-8BAE9A26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BA4A2-C81F-46B9-8777-813C1891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36953C-2512-4A35-AEA5-E2BD11C7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37CFFA-C0AE-4735-A602-74768E3D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4CA050-F534-4E44-BC4A-0D155FA4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9C8763-21C3-436B-BFA6-BEA4F3D0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E908F1-DBBC-4A0B-A2FF-8A5978C7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CB28C6-B1D0-478A-B822-E9EACCBB6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F58B88-BA1D-4E2A-B7EF-A29CE26F5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381033-2870-487C-9F46-1E217EF44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CCA817-DF2A-4EBB-BC53-BA0AE0FB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0C1F89-A9AA-4145-A39C-85BEBAFD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79EE-BF36-4D7C-8BCD-CD6C3B4B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4B49A2-C748-4D58-A6A1-E8115514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0B1A9C-003C-405D-9CF7-5AAA25C0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8908D0-F9DC-4015-BD89-34CC0BE5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E6B3F6-06EF-4A19-BC1B-CA6FB05A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FB2833-32B7-4306-9A83-1EB3A810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3EF5F6-3264-4B67-96E0-27C250A1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BA8232-DA19-4386-AF48-3C007E8D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D26A5A-E754-4BB4-B3EA-F054345B3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0E1469-0E56-4166-9914-61CFF4700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11EE00-203C-4CE1-A4D6-C3171A289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2E4E-E65C-431A-A6EE-258049D26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E220D6-D546-42AD-B1D4-F7B952BA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B52229-7D4D-4B76-A952-C6732CC0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E2B6F4-05ED-4DBA-B3EA-1A1D2C8C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E0485B-D1E7-4D52-8F55-D5F0677E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1DA545-9BF8-4790-BFF8-F583E01C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4AD875-65A4-4E30-A3B9-DCDF5C10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8281F5-5F2E-4B99-8581-355CF24C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487B7E-429A-49CD-8DAD-06E5338D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D761CF-B54A-4927-8441-A6ABBF35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F3C082-2552-4634-AE00-2236AE377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D549-960E-4DC5-98A8-49F2FC52E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D2F9FD-0B38-472C-92CD-B53DF215E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662CA4-3C1B-45F4-916E-21B2EB3E0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6E074C-3547-47D8-BE4E-F6FE44C8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A336B7-C942-4EBF-A95F-799100D6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D9D55A-9D56-4E81-A214-5110CD90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987994-C21F-4CC8-92EC-A6AC737C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5D7446-1CE1-4270-A09D-462977EA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987EAF-8E87-4DEA-AF56-C832B188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1B37FF-BE85-4CAA-8087-C0C29988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A01DAB-28F2-4351-B4B3-EE92189F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8AC89-6C23-4CCE-B8D4-5A0E1683B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8AF3D3-FE1C-4235-AF67-34D28B24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3E6BA2-FCF7-4E5B-8C17-476F46600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70B01B-65BF-46E9-9FDF-8470EB159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B3B3B-8C2E-4113-97AF-A229C88D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8C1D7-D667-4118-AD5E-DD6438D1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CC23B-AC6D-4F84-9A0F-4C5D65ED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44D62-06AA-4463-B9FB-2FCEA6D0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9ADF-52A6-4045-8932-2F2973DD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4E876-5E9B-4898-831B-87254AC2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4D1CC-01A2-4686-97DA-D2AE286E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70943-4CCB-4815-B4FE-82318D43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C72BF-50EF-4005-ADE3-413D1323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B2FD5-16F7-4A8B-B35F-77E2F126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44E0D-7611-49B8-A208-13E888E97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69F4F-142F-4BE0-AAA1-8CA79D855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B6A09-94D0-4386-9F11-D948FAA3A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3E9DA-FBDA-4D7F-9C7E-9CD2C3E0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B8E06-265F-40BA-8CC6-BD8FA723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4605-BF95-4731-9FB0-8CFC41D1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19A9C-7D5C-4CB7-BA75-89E911CA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80BDD-1F86-4579-8555-C12254D1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3B5B4-2CF2-49CE-83FD-92F876F0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A4042-6F39-4103-9138-982D34A7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EC6B7-9F4C-4D0F-9962-954FB547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B6EDE-30B1-4441-BFB6-62753063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5B2C3-EC85-471C-8EEA-8B16AB8C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521AA-A923-48F5-9C3D-E79AE7569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BC1F8-2D43-45A4-A004-756DC47FA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76C67-58B1-4943-BB8B-3710F9479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E023-A812-4E82-8E9B-710F39A7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9CF80-532C-4B88-AD43-67C49CE1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C9ACD-4B4F-46AC-A26E-E45965C7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C1ABD-4358-4D23-BD81-C3939DF8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6D671-3657-4BA7-9D85-2EDF829B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E414C-C319-43D6-9450-1A2994D1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5D852-64E9-4FCC-815C-E93B1833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1ABFD-4A9C-42B1-B0D0-7AE158C5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B0C36-CF17-48CC-B356-5AA7653C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E9F62-F022-41EE-A6BB-E8914B72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05B92-3990-4790-9049-0C5ADF064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5314-B5F3-4E40-A0D7-CDE31E54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14414-DDDC-4127-B301-A302E277B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500C3-5952-482C-8EFA-F3B7E7B47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ACF16-F5A6-48D6-981B-E8A9E673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A6C44-1F92-42C6-95DE-F3FD74C0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F1579-A9D5-4735-80F1-10E14BD2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9B1AB-E016-4E18-B1E9-938F4CF8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C8D6F-117A-4BA3-A016-55D9B525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C464B-CDFC-493E-8052-9C6FAA82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53CE0-53A0-4FE9-82AD-95A1D013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4A575-81B1-4537-9FDC-B5F68082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AFDB-548E-4F71-BBF4-7350365C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80E26-A827-4BD7-81EF-5D50851B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6C4B2-44F8-4E38-BBB2-5F1A00502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E5F9E-2ABF-4FFA-97FA-AEA5D679F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5C960-71C3-4954-8788-70E03EB85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DC01B-9F17-48DB-9902-3EFF3C30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DF22E-4597-4458-A3C5-11216ED2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5AA68-2F36-4294-A110-43AABBD2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C271E-11DF-4ADB-B467-F17FD2D0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545AB-0708-496C-A1FB-D0636B44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13E64-A622-4BFF-801B-07A3CFD4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E14B-F8CD-407E-901C-48F8DB6C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A5706-10AF-4DBC-BB86-DCE59EE9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B245B-D0FE-4560-BB59-DB87A960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1118D-E030-4B3D-998A-D4E631B9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8003E-35C2-4BE0-A4D6-A812529FE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A2E48-90E1-42BD-9101-9F07B3D61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903D8-AD5E-41B1-B984-EF8EBA035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E7CE7-3DCD-4E80-9996-44E3A3E7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48D9C-2E60-47BB-BD5B-AF87AE9A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D9F22-89FD-4AC8-9B6C-B51B23ED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D00C4-32E2-40EF-AFA4-4BF7F912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DEB7-C48A-4746-BFC1-E4FEBE23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1156F-23BD-49B7-A2F7-0659B136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C3F41-E461-4AB4-B380-EBA718B6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CBB0A-7AC0-4F89-89D0-35B3E3EE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43572-28AA-4088-BA8B-ACB695F6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37877-2F78-4CB1-8674-376F5B06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ED356-2662-4F01-BDDF-9EAC1190A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E3560-6A7E-4030-921D-FB5FC3A5B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836C2-05BF-4EAC-8053-7D35E2128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600909-28C9-4315-BD67-565F5A0D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E07373-3253-4461-A057-B54422B8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8A05-4A8C-42A2-95AA-17719F62D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BB1D-AA75-426A-8AD2-9149BB28DE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BFAE-DB3F-4DEF-B572-B209EA74BE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A83F-CE2A-429F-B48D-423AC3DCB6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2013-A269-471E-ADFC-0C2A5383AD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07C7-F003-4AF5-89A6-607EFFBC39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5FA4-4429-472F-A1EA-9FE803B28D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8939-7EE7-4238-8839-44D198995F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3076-4DAA-4476-B42A-5BA64C1D71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35E7-1181-4572-8EBD-246C840301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4D17-23C9-4281-B8E2-92AD38B063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5457-F715-4737-9739-4A9971B899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96AA-603B-44F2-8380-718C6B1702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6AF6-4457-4825-A000-69A5A6AE68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07CF-CF74-40AD-8826-0E58B50D25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A161-5A51-4847-8724-4D028ECB84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0A8A-6AB3-424E-B34A-BE10EFE290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E8C1-0DB4-4618-9BBC-9CE993AF45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E032-A63C-43F2-A848-68179D073E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7363-395D-4480-9C4D-E9F99AD7E6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53C9-DB81-40D1-A4BE-BB0C2F6E90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FC6D-21B1-479D-99A7-140D9FF5BC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8CCF-5C4B-4A2E-B146-2E9AB14E6A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381A-D723-4975-9346-4998078E8D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B88E-8944-43B5-B770-C92B75E189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8619-79D4-4DD9-AF46-8CFFC1D57B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3037-268F-4EC5-9C3C-15539A5A4A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95A9-9E82-4601-A12C-B6AF2127C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3DFF-0D85-41D8-B398-905C882509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3BBA-B96E-4C35-AB97-80EC1A4811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E0E4-3219-4ADB-BD6F-C387796CA5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1194-9C1F-470C-8E3C-AE0BBE1C8E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DCF3-B924-4B48-9680-84C4AF338B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1296-BF44-4634-A541-48ACF7A9F3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018F-F659-4881-AE55-192B2B1829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5DB0-F803-4442-99BA-73F3539952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DB98-FE55-4176-A788-A30B77F662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A401-D2A6-498F-80EA-74410155B6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B328-FDDF-4623-B0C2-9CB460A126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8DC1-6538-4C3C-9437-8F0BBBF9A7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30240" y="3051000"/>
            <a:ext cx="8904240" cy="7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1" name="图片 2" descr=""/>
          <p:cNvPicPr/>
          <p:nvPr/>
        </p:nvPicPr>
        <p:blipFill>
          <a:blip r:embed="rId1"/>
          <a:stretch/>
        </p:blipFill>
        <p:spPr>
          <a:xfrm>
            <a:off x="76320" y="1733400"/>
            <a:ext cx="8991360" cy="339120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2"/>
          <a:stretch/>
        </p:blipFill>
        <p:spPr>
          <a:xfrm>
            <a:off x="3132000" y="2579760"/>
            <a:ext cx="935280" cy="44928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3"/>
          <a:stretch/>
        </p:blipFill>
        <p:spPr>
          <a:xfrm>
            <a:off x="2627280" y="3933720"/>
            <a:ext cx="1873440" cy="44928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4"/>
          <a:stretch/>
        </p:blipFill>
        <p:spPr>
          <a:xfrm>
            <a:off x="2411280" y="4595760"/>
            <a:ext cx="187344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7" name="图片 1" descr=""/>
          <p:cNvPicPr/>
          <p:nvPr/>
        </p:nvPicPr>
        <p:blipFill>
          <a:blip r:embed="rId1"/>
          <a:stretch/>
        </p:blipFill>
        <p:spPr>
          <a:xfrm>
            <a:off x="442800" y="2119320"/>
            <a:ext cx="8256600" cy="261936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2"/>
          <a:stretch/>
        </p:blipFill>
        <p:spPr>
          <a:xfrm>
            <a:off x="3635280" y="2075040"/>
            <a:ext cx="1297080" cy="44892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3"/>
          <a:stretch/>
        </p:blipFill>
        <p:spPr>
          <a:xfrm>
            <a:off x="5867280" y="3414600"/>
            <a:ext cx="1297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2" name="图片 1" descr=""/>
          <p:cNvPicPr/>
          <p:nvPr/>
        </p:nvPicPr>
        <p:blipFill>
          <a:blip r:embed="rId1"/>
          <a:stretch/>
        </p:blipFill>
        <p:spPr>
          <a:xfrm>
            <a:off x="57240" y="1052640"/>
            <a:ext cx="9029520" cy="475272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2"/>
          <a:stretch/>
        </p:blipFill>
        <p:spPr>
          <a:xfrm>
            <a:off x="1619280" y="3270240"/>
            <a:ext cx="5616720" cy="44928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3"/>
          <a:stretch/>
        </p:blipFill>
        <p:spPr>
          <a:xfrm>
            <a:off x="4284720" y="4624560"/>
            <a:ext cx="3240000" cy="44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7" name="图片 1" descr=""/>
          <p:cNvPicPr/>
          <p:nvPr/>
        </p:nvPicPr>
        <p:blipFill>
          <a:blip r:embed="rId1"/>
          <a:stretch/>
        </p:blipFill>
        <p:spPr>
          <a:xfrm>
            <a:off x="480960" y="1400040"/>
            <a:ext cx="8180280" cy="405792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" descr=""/>
          <p:cNvPicPr/>
          <p:nvPr/>
        </p:nvPicPr>
        <p:blipFill>
          <a:blip r:embed="rId2"/>
          <a:stretch/>
        </p:blipFill>
        <p:spPr>
          <a:xfrm>
            <a:off x="1116000" y="2060640"/>
            <a:ext cx="4103640" cy="44928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1" descr=""/>
          <p:cNvPicPr/>
          <p:nvPr/>
        </p:nvPicPr>
        <p:blipFill>
          <a:blip r:embed="rId3"/>
          <a:stretch/>
        </p:blipFill>
        <p:spPr>
          <a:xfrm>
            <a:off x="971640" y="3414600"/>
            <a:ext cx="6121440" cy="44928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1" descr=""/>
          <p:cNvPicPr/>
          <p:nvPr/>
        </p:nvPicPr>
        <p:blipFill>
          <a:blip r:embed="rId4"/>
          <a:stretch/>
        </p:blipFill>
        <p:spPr>
          <a:xfrm>
            <a:off x="826920" y="4767120"/>
            <a:ext cx="612144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657360" y="1390680"/>
            <a:ext cx="7829280" cy="40766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2124000" y="2276640"/>
            <a:ext cx="1295640" cy="4489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6877080" y="2276640"/>
            <a:ext cx="1295280" cy="4489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2700360" y="2924280"/>
            <a:ext cx="1295280" cy="4492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6877080" y="2924280"/>
            <a:ext cx="1295280" cy="4492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2771640" y="3602160"/>
            <a:ext cx="1584360" cy="4492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8"/>
          <a:stretch/>
        </p:blipFill>
        <p:spPr>
          <a:xfrm>
            <a:off x="6877080" y="3630600"/>
            <a:ext cx="1584360" cy="4492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9"/>
          <a:stretch/>
        </p:blipFill>
        <p:spPr>
          <a:xfrm>
            <a:off x="2700360" y="4292640"/>
            <a:ext cx="1584360" cy="4492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10"/>
          <a:stretch/>
        </p:blipFill>
        <p:spPr>
          <a:xfrm>
            <a:off x="6516720" y="4292640"/>
            <a:ext cx="1584360" cy="4492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11"/>
          <a:stretch/>
        </p:blipFill>
        <p:spPr>
          <a:xfrm>
            <a:off x="2195640" y="4956120"/>
            <a:ext cx="1584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0" name="图片 1" descr=""/>
          <p:cNvPicPr/>
          <p:nvPr/>
        </p:nvPicPr>
        <p:blipFill>
          <a:blip r:embed="rId1"/>
          <a:stretch/>
        </p:blipFill>
        <p:spPr>
          <a:xfrm>
            <a:off x="219240" y="971640"/>
            <a:ext cx="8705520" cy="53798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2"/>
          <a:stretch/>
        </p:blipFill>
        <p:spPr>
          <a:xfrm>
            <a:off x="1258920" y="184464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3"/>
          <a:stretch/>
        </p:blipFill>
        <p:spPr>
          <a:xfrm>
            <a:off x="1258920" y="452268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5" name="图片 1" descr=""/>
          <p:cNvPicPr/>
          <p:nvPr/>
        </p:nvPicPr>
        <p:blipFill>
          <a:blip r:embed="rId1"/>
          <a:stretch/>
        </p:blipFill>
        <p:spPr>
          <a:xfrm>
            <a:off x="509760" y="1095480"/>
            <a:ext cx="8123040" cy="46670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2"/>
          <a:stretch/>
        </p:blipFill>
        <p:spPr>
          <a:xfrm>
            <a:off x="900000" y="119700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3"/>
          <a:stretch/>
        </p:blipFill>
        <p:spPr>
          <a:xfrm>
            <a:off x="900000" y="321300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0" name="图片 1" descr=""/>
          <p:cNvPicPr/>
          <p:nvPr/>
        </p:nvPicPr>
        <p:blipFill>
          <a:blip r:embed="rId1"/>
          <a:stretch/>
        </p:blipFill>
        <p:spPr>
          <a:xfrm>
            <a:off x="447840" y="2152800"/>
            <a:ext cx="8248320" cy="255240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2"/>
          <a:stretch/>
        </p:blipFill>
        <p:spPr>
          <a:xfrm>
            <a:off x="826920" y="220500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4" name="图片 1" descr=""/>
          <p:cNvPicPr/>
          <p:nvPr/>
        </p:nvPicPr>
        <p:blipFill>
          <a:blip r:embed="rId1"/>
          <a:stretch/>
        </p:blipFill>
        <p:spPr>
          <a:xfrm>
            <a:off x="214200" y="1386000"/>
            <a:ext cx="8713800" cy="408600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2"/>
          <a:stretch/>
        </p:blipFill>
        <p:spPr>
          <a:xfrm>
            <a:off x="1258920" y="2276640"/>
            <a:ext cx="504720" cy="44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8" name="图片 1" descr=""/>
          <p:cNvPicPr/>
          <p:nvPr/>
        </p:nvPicPr>
        <p:blipFill>
          <a:blip r:embed="rId1"/>
          <a:stretch/>
        </p:blipFill>
        <p:spPr>
          <a:xfrm>
            <a:off x="533520" y="1766880"/>
            <a:ext cx="8076960" cy="332424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2"/>
          <a:stretch/>
        </p:blipFill>
        <p:spPr>
          <a:xfrm>
            <a:off x="971640" y="184464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2" name="图片 1" descr=""/>
          <p:cNvPicPr/>
          <p:nvPr/>
        </p:nvPicPr>
        <p:blipFill>
          <a:blip r:embed="rId1"/>
          <a:stretch/>
        </p:blipFill>
        <p:spPr>
          <a:xfrm>
            <a:off x="542880" y="204840"/>
            <a:ext cx="8058240" cy="644832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2"/>
          <a:stretch/>
        </p:blipFill>
        <p:spPr>
          <a:xfrm>
            <a:off x="900000" y="26028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3"/>
          <a:stretch/>
        </p:blipFill>
        <p:spPr>
          <a:xfrm>
            <a:off x="971640" y="351468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7" name="图片 1" descr=""/>
          <p:cNvPicPr/>
          <p:nvPr/>
        </p:nvPicPr>
        <p:blipFill>
          <a:blip r:embed="rId1"/>
          <a:stretch/>
        </p:blipFill>
        <p:spPr>
          <a:xfrm>
            <a:off x="295200" y="2071800"/>
            <a:ext cx="8553600" cy="271440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2"/>
          <a:stretch/>
        </p:blipFill>
        <p:spPr>
          <a:xfrm>
            <a:off x="684360" y="213372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50:05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